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31AD6-85C8-4845-8622-3F8DD6310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DE57-8C96-4284-A504-3496968DB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C6363-5797-4CFE-A4EF-156BFFC5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71B97-0AE4-4201-951C-BF6E12FE8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120A7-E881-4119-AA1C-3A46C5B7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3EA0-1553-42A2-8011-E3AEF9875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77E4-5383-48C3-9A05-38D428F54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341B4-B528-488D-89B0-CD40DF2A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629C1-43AD-4BB9-B739-F7509E6D8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41F2-C9DB-4CEA-83B7-76DE38B6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8EB6-A2A9-42AC-ABCE-D2249E32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1544-0951-437D-AB3E-67967F454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15D9-209C-4D62-889A-8CAB4922B5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1" name="WordArt 6"/>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Picture 8" descr="ANd9GcQx406rgNmhDyRmU7rnYKcK8AonT8A2llPuuosIW_ik9PR9Sgo_8g"/>
          <p:cNvPicPr/>
          <p:nvPr/>
        </p:nvPicPr>
        <p:blipFill>
          <a:blip r:embed="rId1"/>
          <a:stretch/>
        </p:blipFill>
        <p:spPr>
          <a:xfrm>
            <a:off x="684360" y="2781360"/>
            <a:ext cx="2895480" cy="3714840"/>
          </a:xfrm>
          <a:prstGeom prst="rect">
            <a:avLst/>
          </a:prstGeom>
          <a:ln w="0">
            <a:noFill/>
          </a:ln>
        </p:spPr>
      </p:pic>
      <p:pic>
        <p:nvPicPr>
          <p:cNvPr id="43" name="Picture 9" descr="cuidando viejo"/>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Picture 4" descr="cuidando vieja"/>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garrantzitsu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du behar ez dietelako eta nahi dutenean lanetik bota ahal dituztelako kontraturik gabe daudelako</a:t>
            </a:r>
            <a:endParaRPr b="0" lang="en-US" sz="2000" spc="-1" strike="noStrike">
              <a:solidFill>
                <a:srgbClr val="000000"/>
              </a:solidFill>
              <a:latin typeface="Arial"/>
            </a:endParaRPr>
          </a:p>
        </p:txBody>
      </p:sp>
      <p:pic>
        <p:nvPicPr>
          <p:cNvPr id="49" name="Picture 5" descr="ANd9GcTORbTcAzmNzv-W311i37KTO2o8eeeqFs_1fkDuuMvc07A2ph08LA"/>
          <p:cNvPicPr/>
          <p:nvPr/>
        </p:nvPicPr>
        <p:blipFill>
          <a:blip r:embed="rId1"/>
          <a:stretch/>
        </p:blipFill>
        <p:spPr>
          <a:xfrm>
            <a:off x="5076720" y="4797360"/>
            <a:ext cx="255276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1" name="PlaceHolder 2"/>
          <p:cNvSpPr>
            <a:spLocks noGrp="1"/>
          </p:cNvSpPr>
          <p:nvPr>
            <p:ph/>
          </p:nvPr>
        </p:nvSpPr>
        <p:spPr>
          <a:xfrm>
            <a:off x="457200" y="1196640"/>
            <a:ext cx="8229600" cy="410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pic>
        <p:nvPicPr>
          <p:cNvPr id="52" name="Picture 4" descr="camarera2"/>
          <p:cNvPicPr/>
          <p:nvPr/>
        </p:nvPicPr>
        <p:blipFill>
          <a:blip r:embed="rId1"/>
          <a:stretch/>
        </p:blipFill>
        <p:spPr>
          <a:xfrm>
            <a:off x="5435640" y="39337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lan kaskarrak onartzen dituzte. Hori gure ekonomiarentzako ezinhobea da. Hala ere, ez dute diru asko irabaz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6" name="PlaceHolder 2"/>
          <p:cNvSpPr>
            <a:spLocks noGrp="1"/>
          </p:cNvSpPr>
          <p:nvPr>
            <p:ph/>
          </p:nvPr>
        </p:nvSpPr>
        <p:spPr>
          <a:xfrm>
            <a:off x="457200" y="1412640"/>
            <a:ext cx="8229600" cy="48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8" name="PlaceHolder 2"/>
          <p:cNvSpPr>
            <a:spLocks noGrp="1"/>
          </p:cNvSpPr>
          <p:nvPr>
            <p:ph/>
          </p:nvPr>
        </p:nvSpPr>
        <p:spPr>
          <a:xfrm>
            <a:off x="250560" y="1600200"/>
            <a:ext cx="8435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pc</cp:lastModifiedBy>
  <dcterms:modified xsi:type="dcterms:W3CDTF">2012-05-22T21:16:28Z</dcterms:modified>
  <cp:revision>12</cp:revision>
  <dc:subject/>
  <dc:title>Diapositiva 1</dc:title>
</cp:coreProperties>
</file>